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7362-582A-471E-81C6-2CFCF4E1A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0E69-3E55-42A9-8325-45C8E5EF0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FBFA-A5D7-4C9F-8841-F31F88393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CCB7-E745-44F4-BB80-C27D29D3F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562F-C6D3-43FB-9244-F7A3E9DBC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CA73-8CF9-41CD-9303-304910562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C11A-2993-454C-8E35-F0C0FC26B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FAFD-A782-4A09-9CB1-FF1377FE1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6C8E-7A0F-4DCE-93EF-7CB51287E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F5B4-DA7B-476A-9BF8-D5CBFD60B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19AC-7B0B-411D-B143-4C78C0685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B35F-186C-49E5-85C9-065EBAF70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4B0B-7C21-4DFD-8B6A-54D3921E3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2359-9556-48DD-8240-8261D943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2EDD-E2CA-4C40-A69B-F43C83CD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7C16-61C3-45C3-9DA7-FDDE645B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A778-B915-4B4C-885C-14B3B767E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1629-CC31-4D7B-A4D3-C3B4CF14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045D-3C29-4B11-8F41-0E1B2E1B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6BCF-9DD7-45EC-A81A-09FF7DDC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F675-94BF-48C1-9245-D078E624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99E4-F1A8-4FF0-B28D-22904FFD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491E-24CD-47B7-96CF-A05B49DC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CA44-6BE1-43C2-BF22-518F7CA7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4317-CEBE-4A79-BC0C-5258E854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0AC4-E96B-4844-8FB1-868CB7AA176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Untitled-1"/>
          <p:cNvPicPr/>
          <p:nvPr/>
        </p:nvPicPr>
        <p:blipFill>
          <a:blip r:embed="rId3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Plenary 5(Rough Outline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 discuss how these are meant to model whole class teaching practice, while, at the same time, being used for interven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And…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 share what the research has told us about how students and teachers reacted to the materials and what happened to their academic performa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The research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 go through a similar process with the Grade 9 proportional reasoning packa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 probably begin with the open question on the next sli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Grade 9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Screen shot 2011-06-29 at 2.35.18 PM.png"/>
          <p:cNvPicPr/>
          <p:nvPr/>
        </p:nvPicPr>
        <p:blipFill>
          <a:blip r:embed="rId1"/>
          <a:stretch/>
        </p:blipFill>
        <p:spPr>
          <a:xfrm>
            <a:off x="1407960" y="0"/>
            <a:ext cx="632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anaging  DI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focus on implementation strategies of materials like these, or others, and how we integrate them while working with other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discuss how Grade 9 teachers struggle more with the DI than Grade 6 and will brainstorm some strate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 do one of the open questions in the GC 6 packages, probably the one on the next sli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First activity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5" descr="Screen shot 2011-06-29 at 2.20.38 PM.png"/>
          <p:cNvPicPr/>
          <p:nvPr/>
        </p:nvPicPr>
        <p:blipFill>
          <a:blip r:embed="rId1"/>
          <a:srcRect l="-13379" t="0" r="-13379" b="0"/>
          <a:stretch/>
        </p:blipFill>
        <p:spPr>
          <a:xfrm>
            <a:off x="457200" y="1905120"/>
            <a:ext cx="8229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 discuss how, unlike what is the commonly held belief, an open question, rather than a highly structured approach, might be very appropriate for a struggling stud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First activity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 share how the 3-part Facilitator Guide material supports the importance of consolidation that focuses on the important math and supports the notion of a 3-part approa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 provide copies of the lesson in question – Student and Facilitat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First activity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 discuss how, unlike what is the commonly held belief, the focus should be on closing conceptual gaps, not just procedural 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First activity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 see that even the more structured activity takes the position that struggling students can and should think, not just 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First activity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 discuss and explore the structure of a Grade 6 lesson, particularly the notion of the open vs structured and the idea of parallel lessons and how they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Then…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 discuss how they differ from teaching materials that would normally be used and wh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And…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16:21:22Z</dcterms:created>
  <dc:creator>PSteele</dc:creator>
  <dc:description/>
  <dc:language>en-US</dc:language>
  <cp:lastModifiedBy>Marian Small</cp:lastModifiedBy>
  <dcterms:modified xsi:type="dcterms:W3CDTF">2011-06-29T18:38:29Z</dcterms:modified>
  <cp:revision>282</cp:revision>
  <dc:subject/>
  <dc:title>Slide 1</dc:title>
</cp:coreProperties>
</file>